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9AF-8EB8-4CF7-BB2E-21A7B22B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C3E-CA0F-4873-A6EC-13A24873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B6B-8735-4724-8358-CA605323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19D-D041-4E0D-87D2-077781BD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EEA2-9BFC-46B0-817B-F86532EE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BF42-5731-49FB-AFD0-34A482B6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BBFC-8D91-490E-AAC5-9704C935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65D8-2FE1-420C-AF53-A390DDA8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2398-D5CB-4494-BC25-BAC3E3F4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AE42-8FE3-4FB1-AD85-6316BA81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A613-36D2-4317-A35E-76529659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7DD-76FB-4A21-A00D-778312DC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F36C-0202-4E7C-BE86-D863DDA7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53E8-5070-4228-B670-EB9FA10F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B179-B18A-4855-A66D-8B8AD89D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F511-66C0-4F89-BA62-7B2E14F9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A2B8-BB4A-44B0-B715-C0340DFC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EC5-2991-4C43-AD07-65DDBF3C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401-8983-4493-B45D-E3D673F7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A26-5FAE-4AF4-BCE9-5F89F05B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24A-7350-4DC2-9345-2407249D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B31-0E6D-4DF0-B88B-5EA304B5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06F-86B0-477F-ADB4-0FC29714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BB5-B945-41EC-8D65-91A27A3F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9CA5-69E4-4F9F-BA78-F30F60257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F94B-10BC-451D-A765-892A22D46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си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55640" y="2852280"/>
            <a:ext cx="453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ател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ляжко Наталья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«Цнин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мбовского рай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22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19080" y="2997360"/>
            <a:ext cx="432432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http://www.voskresenie-tomsk.ru/images/Resize-of-book1_full.jpg"/>
          <p:cNvPicPr/>
          <p:nvPr/>
        </p:nvPicPr>
        <p:blipFill>
          <a:blip r:embed="rId1"/>
          <a:stretch/>
        </p:blipFill>
        <p:spPr>
          <a:xfrm>
            <a:off x="250920" y="274680"/>
            <a:ext cx="8785080" cy="645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Обучение грамоте. Перейти на страницу источника"/>
          <p:cNvPicPr/>
          <p:nvPr/>
        </p:nvPicPr>
        <p:blipFill>
          <a:blip r:embed="rId1"/>
          <a:stretch/>
        </p:blipFill>
        <p:spPr>
          <a:xfrm>
            <a:off x="179280" y="115920"/>
            <a:ext cx="8640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ый русский бук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а дата его появления – букварь напечатал Иван Федоров, первый русский книгоиздатель, в 1574 году. В нем было 5 тетрадей, в каждой – по 8 листов. Если пересчитать все в  привычный для нас формат, то в первом букваре было 80 страниц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ttps://deti.mail.ru/pre_square800_resize/pic/wysiwyg/2015/08/31/BogdanovBelsky_UstnySchet_OZVh0Hf.jpg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ых школах  изучали  церковные книги, грамматику, арифметику, риторику. Имели право обучаться только мальчики. Считалось, что женщинам грамота ни к чему, тогда как мужчина должен быть знающим и образован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864216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4791240"/>
            <a:ext cx="9132840" cy="17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преподавания проходил по ступеням. Каждая группа имела своего преподавателя – наставника, состояла из 5-15 учеников, причем зачастую разновозраст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первые школы на Руси"/>
          <p:cNvPicPr/>
          <p:nvPr/>
        </p:nvPicPr>
        <p:blipFill>
          <a:blip r:embed="rId1"/>
          <a:stretch/>
        </p:blipFill>
        <p:spPr>
          <a:xfrm>
            <a:off x="179280" y="115920"/>
            <a:ext cx="4176720" cy="403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s://deti.mail.ru/pre_square800_resize/pic/wysiwyg/2015/08/31/123.jpg"/>
          <p:cNvPicPr/>
          <p:nvPr/>
        </p:nvPicPr>
        <p:blipFill>
          <a:blip r:embed="rId2"/>
          <a:stretch/>
        </p:blipFill>
        <p:spPr>
          <a:xfrm>
            <a:off x="4356000" y="115920"/>
            <a:ext cx="4788000" cy="403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6080" y="1727280"/>
            <a:ext cx="7502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ж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разования в Киевской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чалось только тогда, когда князь Владимир Святославович начал проводить крещение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первые школы"/>
          <p:cNvPicPr/>
          <p:nvPr/>
        </p:nvPicPr>
        <p:blipFill>
          <a:blip r:embed="rId1"/>
          <a:stretch/>
        </p:blipFill>
        <p:spPr>
          <a:xfrm>
            <a:off x="179280" y="274680"/>
            <a:ext cx="3745080" cy="437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Школы на Руси"/>
          <p:cNvPicPr/>
          <p:nvPr/>
        </p:nvPicPr>
        <p:blipFill>
          <a:blip r:embed="rId2"/>
          <a:stretch/>
        </p:blipFill>
        <p:spPr>
          <a:xfrm>
            <a:off x="3924360" y="274680"/>
            <a:ext cx="50403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ядок обу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5320" y="1197000"/>
            <a:ext cx="822960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старину учились дети –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учил церковный дья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Граффити XI в. из Киевского Софийского собора в Киеве: «Пищан писал, к дьякам ходил выучеником»[2].  Перевод С. А. Высоцкого.) [11, с. 42]"/>
          <p:cNvPicPr/>
          <p:nvPr/>
        </p:nvPicPr>
        <p:blipFill>
          <a:blip r:embed="rId1"/>
          <a:stretch/>
        </p:blipFill>
        <p:spPr>
          <a:xfrm>
            <a:off x="324000" y="2997360"/>
            <a:ext cx="8362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ди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металлический сосуд на цепочке для окуривания ладаном церковного помещения при богослу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каких двух слов произошло слов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летопись»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Лето – год, пис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етопи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рукописная книга, в которой в далёком прошлом записывались все события, случившиеся за лето. Словом лето в Древней Руси назывался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к выделяли начал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Объект 1" descr=""/>
          <p:cNvPicPr/>
          <p:nvPr/>
        </p:nvPicPr>
        <p:blipFill>
          <a:blip r:embed="rId1"/>
          <a:stretch/>
        </p:blipFill>
        <p:spPr>
          <a:xfrm>
            <a:off x="0" y="1557360"/>
            <a:ext cx="421164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681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2" descr=""/>
          <p:cNvPicPr/>
          <p:nvPr/>
        </p:nvPicPr>
        <p:blipFill>
          <a:blip r:embed="rId1"/>
          <a:stretch/>
        </p:blipFill>
        <p:spPr>
          <a:xfrm>
            <a:off x="0" y="3789360"/>
            <a:ext cx="44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5715000" cy="36860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3"/>
          <a:stretch/>
        </p:blipFill>
        <p:spPr>
          <a:xfrm>
            <a:off x="5486400" y="30240"/>
            <a:ext cx="3657600" cy="37591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4"/>
          <a:stretch/>
        </p:blipFill>
        <p:spPr>
          <a:xfrm>
            <a:off x="4572000" y="3719520"/>
            <a:ext cx="457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8880" y="245124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096 года первые школы начинают открываться повсеместно. В 1687 году в России открывается Славяно-греко-латинская академия – первое высшее учебное заве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www.voskresenie-tomsk.ru/images/book-day_2.jpg"/>
          <p:cNvPicPr/>
          <p:nvPr/>
        </p:nvPicPr>
        <p:blipFill>
          <a:blip r:embed="rId1"/>
          <a:stretch/>
        </p:blipFill>
        <p:spPr>
          <a:xfrm>
            <a:off x="457200" y="260280"/>
            <a:ext cx="76201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05:38:30Z</dcterms:created>
  <dc:creator>1</dc:creator>
  <dc:description/>
  <dc:language>en-US</dc:language>
  <cp:lastModifiedBy>dbs</cp:lastModifiedBy>
  <cp:lastPrinted>2015-01-08T15:04:49Z</cp:lastPrinted>
  <dcterms:modified xsi:type="dcterms:W3CDTF">2022-04-16T17:26:16Z</dcterms:modified>
  <cp:revision>377</cp:revision>
  <dc:subject/>
  <dc:title>Слайд 1</dc:title>
</cp:coreProperties>
</file>