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9.png" ContentType="image/png"/>
  <Override PartName="/ppt/media/image6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9630-25A1-4283-B778-B2668EE67A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4AED-A965-4B36-871B-5319FF107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5DD7-BE39-4B0B-8ABC-EF990480C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1251-EF3D-4D6F-9095-B434C80CDB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E258-D66F-41AC-B056-3A28FF50B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20A-95B4-466A-8CD3-755CB515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DDB-0A1B-41C1-874C-E67FBCB9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E10-5F9B-41C2-81CF-BB0B7ED5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02F-1B55-4502-8934-987505F2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8C9C-FAC4-4E58-ABB7-62B5C1C6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4812-5734-42EB-B503-4C4253BC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2665-2EEC-4742-969D-FAAAD003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C096-CFAA-4F4D-BB3B-7A3AA3A7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4D12-A87B-4B71-AF15-22BEEFE6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D4A6-0ED7-40F2-BA19-5792991B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D16D-EDF2-4674-8E5E-C2C4A1D1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10B-A667-42B8-849F-87A2AC6C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B6BF-C937-4332-AF08-B965A820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75D2-1E58-43F9-B49F-C349EFDD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33EA-1C88-4C46-88FA-4BD4E67B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1F60-3615-4165-9F8B-F9E73BD6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CB3A-DE3D-42B2-AFCB-D4F9BDC1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A15-A115-4AA9-A5C5-554C7EB6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5B9-7221-4404-82D1-16473602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469-2346-41AF-A6A1-90DBE4C3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FCF-C818-47AA-B250-4BF793F0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EB8-4E67-4EAD-869C-BEE2427E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A69-9721-4A0A-B635-5385279A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78D-C6F8-42F4-90EC-A1F0CCBC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53B9-3BBA-4E45-B104-716646D45D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667A-4209-4F6A-83FD-29A21C082C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ontainer_bg"/>
          <p:cNvPicPr/>
          <p:nvPr/>
        </p:nvPicPr>
        <p:blipFill>
          <a:blip r:embed="rId1"/>
          <a:stretch/>
        </p:blipFill>
        <p:spPr>
          <a:xfrm>
            <a:off x="2987640" y="2421000"/>
            <a:ext cx="2232000" cy="1719360"/>
          </a:xfrm>
          <a:prstGeom prst="rect">
            <a:avLst/>
          </a:prstGeom>
          <a:ln w="0">
            <a:noFill/>
          </a:ln>
        </p:spPr>
      </p:pic>
      <p:sp>
        <p:nvSpPr>
          <p:cNvPr id="99" name="Подзаголовок 2"/>
          <p:cNvSpPr/>
          <p:nvPr/>
        </p:nvSpPr>
        <p:spPr>
          <a:xfrm>
            <a:off x="324000" y="1413000"/>
            <a:ext cx="7993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«Многоликое» 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logo"/>
          <p:cNvPicPr/>
          <p:nvPr/>
        </p:nvPicPr>
        <p:blipFill>
          <a:blip r:embed="rId2"/>
          <a:srcRect l="8623" t="13168" r="32819" b="25768"/>
          <a:stretch/>
        </p:blipFill>
        <p:spPr>
          <a:xfrm>
            <a:off x="428760" y="0"/>
            <a:ext cx="2643120" cy="100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 flipV="1" rot="10800000">
            <a:off x="428400" y="4258080"/>
            <a:ext cx="810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к ГИА по русскому языку 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ьева О.И.,  учитель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ЕМЛ 20, г. Пс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logo"/>
          <p:cNvPicPr/>
          <p:nvPr/>
        </p:nvPicPr>
        <p:blipFill>
          <a:blip r:embed="rId1"/>
          <a:srcRect l="8623" t="13168" r="32819" b="25768"/>
          <a:stretch/>
        </p:blipFill>
        <p:spPr>
          <a:xfrm>
            <a:off x="6215040" y="214200"/>
            <a:ext cx="244800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[      ],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[      ]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- .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[      ]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 [      ]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[      ]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[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и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]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928800" y="285840"/>
            <a:ext cx="64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Третий лиш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5"/>
          <p:cNvSpPr/>
          <p:nvPr/>
        </p:nvSpPr>
        <p:spPr>
          <a:xfrm>
            <a:off x="5000760" y="5429160"/>
            <a:ext cx="571320" cy="6429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6"/>
          <p:cNvSpPr/>
          <p:nvPr/>
        </p:nvSpPr>
        <p:spPr>
          <a:xfrm>
            <a:off x="6286680" y="5429160"/>
            <a:ext cx="571320" cy="6429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ССП имеетс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щий второстепен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В начале апреля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же шумели скворцы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летали в саду желтые бабоч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. - . - . -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[      ]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[     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logo"/>
          <p:cNvPicPr/>
          <p:nvPr/>
        </p:nvPicPr>
        <p:blipFill>
          <a:blip r:embed="rId1"/>
          <a:srcRect l="8623" t="13168" r="32819" b="25768"/>
          <a:stretch/>
        </p:blipFill>
        <p:spPr>
          <a:xfrm>
            <a:off x="0" y="260280"/>
            <a:ext cx="2314440" cy="9144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3"/>
          <p:cNvSpPr/>
          <p:nvPr/>
        </p:nvSpPr>
        <p:spPr>
          <a:xfrm flipV="1" rot="10800000">
            <a:off x="2428920" y="444600"/>
            <a:ext cx="5572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пятая не ставится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ажите правильное объяснение пунктуации в предложении.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1428480"/>
            <a:ext cx="835812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й было смешно, что студенты дерутся ( ) и что я ставлю их на кол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ростое предложение с однородными членами, перед союзом И запятая не нуж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Сложное предложение, перед союзом И запятая не нуж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Сложное предложение, перед союзом И нужна запята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ростое предложение с однородными членами, перед союзом И нужна запя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жду однородными придаточ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лучили известие,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чт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Волга стала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чт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через нее потянулись обоз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)   И   (     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logo"/>
          <p:cNvPicPr/>
          <p:nvPr/>
        </p:nvPicPr>
        <p:blipFill>
          <a:blip r:embed="rId1"/>
          <a:srcRect l="8623" t="13168" r="32819" b="25768"/>
          <a:stretch/>
        </p:blipFill>
        <p:spPr>
          <a:xfrm>
            <a:off x="0" y="189000"/>
            <a:ext cx="2314440" cy="9144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 flipV="1" rot="10800000">
            <a:off x="2643120" y="36576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пятая не став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nts and Settings\Admin\Мои документы\Мои рисунки\предлог урок\e2b4d9581651t.jpg"/>
          <p:cNvPicPr/>
          <p:nvPr/>
        </p:nvPicPr>
        <p:blipFill>
          <a:blip r:embed="rId1"/>
          <a:stretch/>
        </p:blipFill>
        <p:spPr>
          <a:xfrm>
            <a:off x="3500280" y="2786040"/>
            <a:ext cx="1928880" cy="185724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 2" descr=""/>
          <p:cNvPicPr/>
          <p:nvPr/>
        </p:nvPicPr>
        <p:blipFill>
          <a:blip r:embed="rId2"/>
          <a:stretch/>
        </p:blipFill>
        <p:spPr>
          <a:xfrm>
            <a:off x="-19080" y="646200"/>
            <a:ext cx="9394920" cy="2212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221472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4"/>
          <a:stretch/>
        </p:blipFill>
        <p:spPr>
          <a:xfrm>
            <a:off x="214200" y="27147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Documents and Settings\Admin\Мои документы\Мои рисунки\Организатор клипов (Microsoft)\j0436872.png"/>
          <p:cNvPicPr/>
          <p:nvPr/>
        </p:nvPicPr>
        <p:blipFill>
          <a:blip r:embed="rId5"/>
          <a:stretch/>
        </p:blipFill>
        <p:spPr>
          <a:xfrm>
            <a:off x="6643800" y="2500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Documents and Settings\Admin\Мои документы\Мои рисунки\Организатор клипов (Microsoft)\j0436872.png"/>
          <p:cNvPicPr/>
          <p:nvPr/>
        </p:nvPicPr>
        <p:blipFill>
          <a:blip r:embed="rId6"/>
          <a:stretch/>
        </p:blipFill>
        <p:spPr>
          <a:xfrm>
            <a:off x="5429160" y="492912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1"/>
          <a:stretch/>
        </p:blipFill>
        <p:spPr>
          <a:xfrm>
            <a:off x="0" y="55008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2"/>
          <a:stretch/>
        </p:blipFill>
        <p:spPr>
          <a:xfrm>
            <a:off x="7929720" y="564372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8072280" y="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4"/>
          <a:stretch/>
        </p:blipFill>
        <p:spPr>
          <a:xfrm>
            <a:off x="0" y="35712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Documents and Settings\Admin\Мои документы\Мои рисунки\предлог урок\e2b4d9581651t.jpg"/>
          <p:cNvPicPr/>
          <p:nvPr/>
        </p:nvPicPr>
        <p:blipFill>
          <a:blip r:embed="rId5"/>
          <a:stretch/>
        </p:blipFill>
        <p:spPr>
          <a:xfrm>
            <a:off x="285840" y="630360"/>
            <a:ext cx="114300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81198 -7.40741E-007 L 0.81198 0.7206 L -4.44444E-006 0.7206 L -4.44444E-006 -7.40741E-007 Z">
                                      <p:cBhvr>
                                        <p:cTn id="6" dur="5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81198 -7.40741E-007 L 0.81198 0.7206 L -4.44444E-006 0.7206 L -4.44444E-006 -7.40741E-007 Z">
                                      <p:cBhvr>
                                        <p:cTn id="9" dur="5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-4.44444E-006 0.7206 L 0.81112 -7.40741E-007 L -4.44444E-006 -7.40741E-007 Z">
                                      <p:cBhvr>
                                        <p:cTn id="12" dur="5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41 -0.0463 C 0.34219 -0.20069 0.58837 -0.14907 0.68941 0.07593 C 0.79046 0.28843 0.73039 0.59144 0.53369 0.74167 C 0.35469 0.88588 0.12483 0.85718 0.03264 0.65671 C -0.04947 0.47222 -0.00398999999999999 0.21296 0.16441 0.08125 C 0.31771 -0.04005 0.5132 -0.01875 0.59306 0.14977 C 0.66476 0.30741 0.62674 0.52639 0.48507 0.63495 C 0.35851 0.7338 0.19428 0.72245 0.13282 0.58032 C 0.07257 0.4544 0.09948 0.27894 0.21355 0.18773 C 0.31667 0.10972 0.44705 0.1132 0.49619 0.22454 C 0.54115 0.32107 0.52344 0.45995 0.43681 0.52801 C 0.36146 0.58704 0.26702 0.58519 0.22848 0.50602 C 0.19636 0.44097 0.20261 0.34421 0.2625 0.29884 C 0.31042 0.2588 0.37379 0.2507 0.39966 0.29838 C 0.4158 0.34051 0.41928 0.39074 0.3882 0.4206 C 0.36702 0.43912 0.34254 0.44676 0.32605 0.43171 C 0.31858 0.42431 0.3158 0.4169 0.31511 0.4044 E">
                                      <p:cBhvr>
                                        <p:cTn id="15" dur="5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37338 C -0.01475 0.12685 0.14358 -0.08657 0.35608 -0.10093 C 0.55903 -0.11944 0.74896 0.0456 0.76164 0.28519 C 0.77761 0.50556 0.64428 0.71181 0.454 0.72639 C 0.28004 0.7375 0.11494 0.60116 0.10244 0.3956 C 0.08976 0.20787 0.20087 0.03102 0.36216 0.01644 C 0.51112 0.00556 0.65105 0.11968 0.66025 0.29236 C 0.66962 0.44676 0.58108 0.59745 0.44792 0.60509 C 0.32744 0.61597 0.21355 0.52778 0.20365 0.38796 C 0.19757 0.26273 0.26407 0.14167 0.36875 0.13449 C 0.46059 0.12685 0.55244 0.19329 0.55903 0.29977 C 0.56511 0.3919 0.51789 0.48009 0.44132 0.4875 C 0.37796 0.49445 0.31146 0.4544 0.30816 0.38079 C 0.30209 0.32153 0.32744 0.25903 0.37466 0.25185 C 0.4132 0.25185 0.45122 0.26667 0.4573 0.30671 C 0.46059 0.3331 0.454 0.35857 0.43525 0.36945 C 0.42587 0.37338 0.41928 0.37338 0.4099 0.36945 E">
                                      <p:cBhvr>
                                        <p:cTn id="18" dur="5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C:\Documents and Settings\Admin\Мои документы\Мои рисунки\Организатор клипов (Microsoft)\j0436872.png"/>
          <p:cNvPicPr/>
          <p:nvPr/>
        </p:nvPicPr>
        <p:blipFill>
          <a:blip r:embed="rId1"/>
          <a:stretch/>
        </p:blipFill>
        <p:spPr>
          <a:xfrm>
            <a:off x="1071720" y="52149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2"/>
          <a:stretch/>
        </p:blipFill>
        <p:spPr>
          <a:xfrm>
            <a:off x="428760" y="27147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7429680" y="264312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C:\Documents and Settings\Admin\Мои документы\Мои рисунки\Организатор клипов (Microsoft)\j0436872.png"/>
          <p:cNvPicPr/>
          <p:nvPr/>
        </p:nvPicPr>
        <p:blipFill>
          <a:blip r:embed="rId4"/>
          <a:stretch/>
        </p:blipFill>
        <p:spPr>
          <a:xfrm>
            <a:off x="6072120" y="51436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5"/>
          <a:stretch/>
        </p:blipFill>
        <p:spPr>
          <a:xfrm>
            <a:off x="1857240" y="2142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6"/>
          <a:stretch/>
        </p:blipFill>
        <p:spPr>
          <a:xfrm>
            <a:off x="6143760" y="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Documents and Settings\Admin\Мои документы\Мои рисунки\предлог урок\e2b4d9581651t.jpg"/>
          <p:cNvPicPr/>
          <p:nvPr/>
        </p:nvPicPr>
        <p:blipFill>
          <a:blip r:embed="rId7"/>
          <a:stretch/>
        </p:blipFill>
        <p:spPr>
          <a:xfrm>
            <a:off x="3929040" y="2992320"/>
            <a:ext cx="1357200" cy="13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8.51852E-006 L -0.14966 -0.26251 E">
                                      <p:cBhvr>
                                        <p:cTn id="78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66 -0.26251 L 3.88889E-006 -0.01065 E">
                                      <p:cBhvr>
                                        <p:cTn id="81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9.62963E-006 L -0.27553 -9.62963E-006 E">
                                      <p:cBhvr>
                                        <p:cTn id="84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53 -1.48148E-006 L 0.00018 0.01064 E">
                                      <p:cBhvr>
                                        <p:cTn id="88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2963E-006 L -0.2047 0.24143 E">
                                      <p:cBhvr>
                                        <p:cTn id="91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47 0.24144 L -0.01581 0.02106 E">
                                      <p:cBhvr>
                                        <p:cTn id="94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6.2963E-006 L 0.15747 0.22059 E">
                                      <p:cBhvr>
                                        <p:cTn id="97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7 0.2206 L 0.01563 0.00022 E">
                                      <p:cBhvr>
                                        <p:cTn id="100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0.2441 -0.01042 E">
                                      <p:cBhvr>
                                        <p:cTn id="103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41 -0.01042 L 0.00782 0.01064 E">
                                      <p:cBhvr>
                                        <p:cTn id="106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14815E-006 L 0.17327 -0.30464 E">
                                      <p:cBhvr>
                                        <p:cTn id="109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27 -0.30463 L 0.0158 -0.02107 E">
                                      <p:cBhvr>
                                        <p:cTn id="112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Documents and Settings\Admin\Мои документы\Мои рисунки\предлог урок\e2b4d9581651t.jpg"/>
          <p:cNvPicPr/>
          <p:nvPr/>
        </p:nvPicPr>
        <p:blipFill>
          <a:blip r:embed="rId1"/>
          <a:stretch/>
        </p:blipFill>
        <p:spPr>
          <a:xfrm>
            <a:off x="285840" y="2428920"/>
            <a:ext cx="1643040" cy="1582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2"/>
          <a:stretch/>
        </p:blipFill>
        <p:spPr>
          <a:xfrm>
            <a:off x="2500200" y="2357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5527800" y="24559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3.05556E-006 0.17547 0.08767 0.32037 0.19479 0.32037 C 0.32118 0.32037 0.36666 0.16019 0.38611 0.06366 L 0.4059 -0.06412 C 0.42534 -0.16018 0.47396 -0.32013 0.61684 -0.32013 C 0.70816 -0.32013 0.81198 -0.17592 0.81198 -4.44444E-006 C 0.81198 0.17547 0.70816 0.32037 0.61684 0.32037 C 0.47396 0.32037 0.42534 0.16019 0.4059 0.06366 L 0.38611 -0.06412 C 0.36666 -0.16018 0.32118 -0.32013 0.19479 -0.32013 C 0.08767 -0.32013 3.05556E-006 -0.17592 3.05556E-006 -4.44444E-006 Z">
                                      <p:cBhvr>
                                        <p:cTn id="118" dur="3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C 3.05556E-006 0.16991 0.08784 0.30995 0.19496 0.30995 C 0.32135 0.30995 0.36701 0.15463 0.38628 0.06158 L 0.40607 -0.0618 C 0.42552 -0.15486 0.47413 -0.30949 0.61684 -0.30949 C 0.70833 -0.30949 0.81215 -0.17014 0.81215 -1.11111E-006 C 0.81215 0.16991 0.70833 0.30995 0.61684 0.30995 C 0.47413 0.30995 0.42552 0.15463 0.40607 0.06158 L 0.38628 -0.0618 C 0.36701 -0.15486 0.32135 -0.30949 0.19496 -0.30949 C 0.08784 -0.30949 3.05556E-006 -0.17014 3.05556E-006 -1.11111E-006 Z">
                                      <p:cBhvr>
                                        <p:cTn id="121" dur="3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Stenci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Stencil"/>
              </a:rPr>
              <a:t>1</a:t>
            </a:r>
            <a:r>
              <a:rPr b="1" lang="ru-RU" sz="6000" spc="-1" strike="noStrike">
                <a:solidFill>
                  <a:srgbClr val="ffffff"/>
                </a:solidFill>
                <a:latin typeface="Stencil"/>
              </a:rPr>
              <a:t>9</a:t>
            </a:r>
            <a:r>
              <a:rPr b="1" lang="en-US" sz="6000" spc="-1" strike="noStrike">
                <a:solidFill>
                  <a:srgbClr val="ffffff"/>
                </a:solidFill>
                <a:latin typeface="Stencil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те знаки препинания: укажите цифры, на месте которых в предложениях должны стоять запят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наки препинания не расставле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Рисунок1полр"/>
          <p:cNvPicPr/>
          <p:nvPr/>
        </p:nvPicPr>
        <p:blipFill>
          <a:blip r:embed="rId1"/>
          <a:stretch/>
        </p:blipFill>
        <p:spPr>
          <a:xfrm>
            <a:off x="5429160" y="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ние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стое и сложное предложе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 союзом 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Рисунок1полр"/>
          <p:cNvPicPr/>
          <p:nvPr/>
        </p:nvPicPr>
        <p:blipFill>
          <a:blip r:embed="rId1"/>
          <a:stretch/>
        </p:blipFill>
        <p:spPr>
          <a:xfrm>
            <a:off x="6156360" y="26028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и обобщение знан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азделам: «Морфология»,«Синтаксис и пунктуация простого и сложного предложения»  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репление и отработка умений и навык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новки знаков препинания перед союз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ростых и сложных предлож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аботка навыков выполнения тестовых контрольных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1297080" cy="111456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1714680" y="324000"/>
            <a:ext cx="62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ели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Рисунок1ю"/>
          <p:cNvPicPr/>
          <p:nvPr/>
        </p:nvPicPr>
        <p:blipFill>
          <a:blip r:embed="rId1"/>
          <a:stretch/>
        </p:blipFill>
        <p:spPr>
          <a:xfrm>
            <a:off x="3564000" y="3500280"/>
            <a:ext cx="2401920" cy="33577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8"/>
          <p:cNvSpPr/>
          <p:nvPr/>
        </p:nvSpPr>
        <p:spPr>
          <a:xfrm>
            <a:off x="3203640" y="1268280"/>
            <a:ext cx="2881080" cy="2232000"/>
          </a:xfrm>
          <a:prstGeom prst="wedgeRoundRectCallout">
            <a:avLst>
              <a:gd name="adj1" fmla="val -2175"/>
              <a:gd name="adj2" fmla="val 713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Рисунок1ffffff"/>
          <p:cNvPicPr/>
          <p:nvPr/>
        </p:nvPicPr>
        <p:blipFill>
          <a:blip r:embed="rId2"/>
          <a:stretch/>
        </p:blipFill>
        <p:spPr>
          <a:xfrm>
            <a:off x="3708360" y="13557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УМАЕМ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НАД РЕШЕНИЕМ ТЕСТОВ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0" y="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редства связ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ложени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текст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1"/>
          <p:cNvPicPr/>
          <p:nvPr/>
        </p:nvPicPr>
        <p:blipFill>
          <a:blip r:embed="rId1"/>
          <a:stretch/>
        </p:blipFill>
        <p:spPr>
          <a:xfrm>
            <a:off x="7429680" y="0"/>
            <a:ext cx="1296720" cy="111456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3"/>
          <p:cNvSpPr/>
          <p:nvPr/>
        </p:nvSpPr>
        <p:spPr>
          <a:xfrm>
            <a:off x="642960" y="1571760"/>
            <a:ext cx="814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ценива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ые высказывания 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зрения языковог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я, эффективност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поставленных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57120" y="1357200"/>
            <a:ext cx="8429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риентировано на проверку умений и навыков анализировать текст с точки зрения связ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следующее предложение строится  на базе предыдущего, вбирая в себя ту или иную его ча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571680" y="28584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ФИПИ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logo"/>
          <p:cNvPicPr/>
          <p:nvPr/>
        </p:nvPicPr>
        <p:blipFill>
          <a:blip r:embed="rId1"/>
          <a:srcRect l="8623" t="13168" r="32819" b="25768"/>
          <a:stretch/>
        </p:blipFill>
        <p:spPr>
          <a:xfrm>
            <a:off x="6572160" y="357120"/>
            <a:ext cx="2214720" cy="9288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4"/>
          <p:cNvSpPr/>
          <p:nvPr/>
        </p:nvSpPr>
        <p:spPr>
          <a:xfrm>
            <a:off x="3143160" y="42876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ние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09480" y="1357200"/>
            <a:ext cx="792504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тельное чтение всех предложений, в которых необходимо вести поиск (+ предыдущее предложение заявленному в задании участку поиск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Выявление формальных показателей связи предложений – определение наличия связи между двумя предложе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79280" y="0"/>
            <a:ext cx="87854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ядок поис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663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торожно!       Не торопись! Разберись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9968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и     носит разговорный нейтрален                  хар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Выгнутая вверх стрелка 4"/>
          <p:cNvSpPr/>
          <p:nvPr/>
        </p:nvSpPr>
        <p:spPr>
          <a:xfrm rot="1824000">
            <a:off x="4647960" y="2722320"/>
            <a:ext cx="2241360" cy="907920"/>
          </a:xfrm>
          <a:custGeom>
            <a:avLst/>
            <a:gdLst>
              <a:gd name="textAreaLeft" fmla="*/ 475200 w 2241360"/>
              <a:gd name="textAreaRight" fmla="*/ 1652760 w 2241360"/>
              <a:gd name="textAreaTop" fmla="*/ 121680 h 907920"/>
              <a:gd name="textAreaBottom" fmla="*/ 7862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60" hR="21600" stAng="10800000" swAng="5400000"/>
                <a:lnTo>
                  <a:pt x="11347" y="0"/>
                </a:lnTo>
                <a:arcTo wR="9160" hR="21600" stAng="-5400000" swAng="3519800"/>
                <a:lnTo>
                  <a:pt x="21309" y="16200"/>
                </a:lnTo>
                <a:lnTo>
                  <a:pt x="19413" y="21600"/>
                </a:lnTo>
                <a:lnTo>
                  <a:pt x="16934" y="16200"/>
                </a:lnTo>
                <a:lnTo>
                  <a:pt x="18028" y="16200"/>
                </a:lnTo>
                <a:arcTo wR="9160" hR="21600" stAng="-1880200" swAng="-3344662"/>
                <a:lnTo>
                  <a:pt x="10253" y="154"/>
                </a:lnTo>
                <a:arcTo wR="9160" hR="21600" stAng="-5575138" swAng="-5224862"/>
                <a:close/>
              </a:path>
              <a:path fill="darkenLess" w="21600" h="21600">
                <a:moveTo>
                  <a:pt x="0" y="21600"/>
                </a:moveTo>
                <a:arcTo wR="9160" hR="21600" stAng="10800000" swAng="5400000"/>
                <a:lnTo>
                  <a:pt x="9160" y="0"/>
                </a:lnTo>
                <a:arcTo wR="9160" hR="21600" stAng="-5400000" swAng="175138"/>
                <a:lnTo>
                  <a:pt x="10253" y="154"/>
                </a:lnTo>
                <a:arcTo wR="9160" hR="21600" stAng="-5575138" swAng="-5224862"/>
                <a:close/>
              </a:path>
            </a:pathLst>
          </a:cu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Выгнутая вниз стрелка 5"/>
          <p:cNvSpPr/>
          <p:nvPr/>
        </p:nvSpPr>
        <p:spPr>
          <a:xfrm rot="8985600">
            <a:off x="1655280" y="2771640"/>
            <a:ext cx="2211480" cy="843120"/>
          </a:xfrm>
          <a:custGeom>
            <a:avLst/>
            <a:gdLst>
              <a:gd name="textAreaLeft" fmla="*/ 473760 w 2211480"/>
              <a:gd name="textAreaRight" fmla="*/ 1632240 w 2211480"/>
              <a:gd name="textAreaTop" fmla="*/ 112680 h 843120"/>
              <a:gd name="textAreaBottom" fmla="*/ 730440 h 8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56" hR="21600" stAng="10800000" swAng="-5400000"/>
                <a:lnTo>
                  <a:pt x="11315" y="21600"/>
                </a:lnTo>
                <a:arcTo wR="9256" hR="21600" stAng="5400000" swAng="-3535765"/>
                <a:lnTo>
                  <a:pt x="21306" y="5400"/>
                </a:lnTo>
                <a:lnTo>
                  <a:pt x="19542" y="0"/>
                </a:lnTo>
                <a:lnTo>
                  <a:pt x="17189" y="5400"/>
                </a:lnTo>
                <a:lnTo>
                  <a:pt x="18218" y="5400"/>
                </a:lnTo>
                <a:arcTo wR="9256" hR="21600" stAng="1864235" swAng="3371018"/>
                <a:lnTo>
                  <a:pt x="10286" y="21466"/>
                </a:lnTo>
                <a:arcTo wR="9256" hR="21600" stAng="5564747" swAng="5235253"/>
                <a:close/>
              </a:path>
              <a:path fill="darkenLess" w="21600" h="21600">
                <a:moveTo>
                  <a:pt x="0" y="0"/>
                </a:moveTo>
                <a:arcTo wR="9256" hR="21600" stAng="10800000" swAng="-5400000"/>
                <a:lnTo>
                  <a:pt x="11315" y="21600"/>
                </a:lnTo>
                <a:arcTo wR="9256" hR="21600" stAng="5400000" swAng="164747"/>
                <a:lnTo>
                  <a:pt x="10286" y="21466"/>
                </a:lnTo>
                <a:arcTo wR="9256" hR="21600" stAng="5564747" swAng="5235253"/>
                <a:close/>
              </a:path>
            </a:pathLst>
          </a:cu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Рисунок1ю"/>
          <p:cNvPicPr/>
          <p:nvPr/>
        </p:nvPicPr>
        <p:blipFill>
          <a:blip r:embed="rId1"/>
          <a:stretch/>
        </p:blipFill>
        <p:spPr>
          <a:xfrm>
            <a:off x="3564000" y="3500280"/>
            <a:ext cx="2401920" cy="335772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8"/>
          <p:cNvSpPr/>
          <p:nvPr/>
        </p:nvSpPr>
        <p:spPr>
          <a:xfrm>
            <a:off x="3203640" y="1268280"/>
            <a:ext cx="2881080" cy="2232000"/>
          </a:xfrm>
          <a:prstGeom prst="wedgeRoundRectCallout">
            <a:avLst>
              <a:gd name="adj1" fmla="val -2175"/>
              <a:gd name="adj2" fmla="val 713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Рисунок1ffffff"/>
          <p:cNvPicPr/>
          <p:nvPr/>
        </p:nvPicPr>
        <p:blipFill>
          <a:blip r:embed="rId2"/>
          <a:stretch/>
        </p:blipFill>
        <p:spPr>
          <a:xfrm>
            <a:off x="3708360" y="13557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УМАЕМ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НАД РЕШЕНИЕМ ТЕСТОВ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663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торожно! Не торопись! Разберись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50560" y="1413000"/>
            <a:ext cx="828180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И все эти творения замечательных мастеров жили не в тесных, замкнутых пространствах музея, а под открытым неб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 Именно здесь я понял  всю красоту Давида. 37 Голова у этого юноши, может быть, несколько и великовата, и кисти рук тоже, но сколько в этой несоразмерности граци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663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торожно!       Не торопись! Разберись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94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эти творения замечательных мастеров жили не в тесных, замкнутых пространствах музея, а под открытым неб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– частица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не соединяет ни однородные члены, ни части сложного предложения. Есть оттенок разговор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663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торожно! Не торопись! Разберись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77920" y="1413000"/>
            <a:ext cx="825480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 Именно здесь я понял  всю красоту Давида. 37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лов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этого юноши, может быть, несколько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вата,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ст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к тоже, но сколько в этой несоразмерности граци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«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- частица. 2 «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- союз, т.к соединяет однородные чл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377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«скрепля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ород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лены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и слож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 текс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логико-смысловое ср-во  связ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трелка вниз 5"/>
          <p:cNvSpPr/>
          <p:nvPr/>
        </p:nvSpPr>
        <p:spPr>
          <a:xfrm>
            <a:off x="4429080" y="2357280"/>
            <a:ext cx="357120" cy="2357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Прямая со стрелкой 26"/>
          <p:cNvCxnSpPr/>
          <p:nvPr/>
        </p:nvCxnSpPr>
        <p:spPr>
          <a:xfrm flipH="1">
            <a:off x="1785600" y="2143080"/>
            <a:ext cx="2215440" cy="572400"/>
          </a:xfrm>
          <a:prstGeom prst="straightConnector1">
            <a:avLst/>
          </a:prstGeom>
          <a:ln w="9360">
            <a:solidFill>
              <a:srgbClr val="6e95bd"/>
            </a:solidFill>
            <a:miter/>
            <a:tailEnd len="med" type="arrow" w="med"/>
          </a:ln>
        </p:spPr>
      </p:cxnSp>
      <p:cxnSp>
        <p:nvCxnSpPr>
          <p:cNvPr id="226" name="Прямая со стрелкой 28"/>
          <p:cNvCxnSpPr/>
          <p:nvPr/>
        </p:nvCxnSpPr>
        <p:spPr>
          <a:xfrm>
            <a:off x="5143320" y="2142720"/>
            <a:ext cx="2143800" cy="1143720"/>
          </a:xfrm>
          <a:prstGeom prst="straightConnector1">
            <a:avLst/>
          </a:prstGeom>
          <a:ln w="9360">
            <a:solidFill>
              <a:srgbClr val="6e95bd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лиц - 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99840"/>
            <a:ext cx="8177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ие виды делятся союз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какому виду относится сою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руктуру каких союзов может входить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основную функцию союза 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ли перед союзом И ставится запята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"/>
          <p:cNvPicPr/>
          <p:nvPr/>
        </p:nvPicPr>
        <p:blipFill>
          <a:blip r:embed="rId1"/>
          <a:stretch/>
        </p:blipFill>
        <p:spPr>
          <a:xfrm>
            <a:off x="6929280" y="214200"/>
            <a:ext cx="1297080" cy="1114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5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– грамматический омони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000029"/>
                </a:solidFill>
                <a:latin typeface="Times New Roman"/>
              </a:rPr>
              <a:t>«</a:t>
            </a:r>
            <a:r>
              <a:rPr b="1" i="1" lang="ru-RU" sz="7200" spc="-1" strike="noStrike">
                <a:solidFill>
                  <a:srgbClr val="000029"/>
                </a:solidFill>
                <a:latin typeface="Times New Roman"/>
              </a:rPr>
              <a:t>Многоликое</a:t>
            </a:r>
            <a:r>
              <a:rPr b="1" lang="ru-RU" sz="7200" spc="-1" strike="noStrike">
                <a:solidFill>
                  <a:srgbClr val="000029"/>
                </a:solidFill>
                <a:latin typeface="Times New Roman"/>
              </a:rPr>
              <a:t>»</a:t>
            </a:r>
            <a:r>
              <a:rPr b="1" lang="ru-RU" sz="7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ою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4"/>
          <p:cNvCxnSpPr/>
          <p:nvPr/>
        </p:nvCxnSpPr>
        <p:spPr>
          <a:xfrm flipH="1">
            <a:off x="2928600" y="2714760"/>
            <a:ext cx="4143600" cy="714960"/>
          </a:xfrm>
          <a:prstGeom prst="straightConnector1">
            <a:avLst/>
          </a:prstGeom>
          <a:ln w="9360">
            <a:solidFill>
              <a:srgbClr val="6e95bd"/>
            </a:solidFill>
            <a:miter/>
            <a:tailEnd len="med" type="arrow" w="med"/>
          </a:ln>
        </p:spPr>
      </p:cxnSp>
      <p:cxnSp>
        <p:nvCxnSpPr>
          <p:cNvPr id="230" name="Прямая со стрелкой 6"/>
          <p:cNvCxnSpPr/>
          <p:nvPr/>
        </p:nvCxnSpPr>
        <p:spPr>
          <a:xfrm flipH="1">
            <a:off x="5357160" y="2714760"/>
            <a:ext cx="1786680" cy="1429200"/>
          </a:xfrm>
          <a:prstGeom prst="straightConnector1">
            <a:avLst/>
          </a:prstGeom>
          <a:ln w="9360">
            <a:solidFill>
              <a:srgbClr val="6e95bd"/>
            </a:solidFill>
            <a:miter/>
            <a:tailEnd len="med" type="arrow" w="med"/>
          </a:ln>
        </p:spPr>
      </p:cxnSp>
      <p:cxnSp>
        <p:nvCxnSpPr>
          <p:cNvPr id="231" name="Прямая со стрелкой 8"/>
          <p:cNvCxnSpPr/>
          <p:nvPr/>
        </p:nvCxnSpPr>
        <p:spPr>
          <a:xfrm flipH="1">
            <a:off x="6714720" y="2928960"/>
            <a:ext cx="572400" cy="2358000"/>
          </a:xfrm>
          <a:prstGeom prst="straightConnector1">
            <a:avLst/>
          </a:prstGeom>
          <a:ln w="9360">
            <a:solidFill>
              <a:srgbClr val="6e95bd"/>
            </a:solidFill>
            <a:miter/>
            <a:tailEnd len="med" type="arrow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«Сегодня на уроке я узнал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«Сегодня на уроке я научился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«Сегодня на уроке мне было сложно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«Сегодня на уроке мне было легко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«Сегодня на уроке мне понравилось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G:\sova_2_1.png"/>
          <p:cNvPicPr/>
          <p:nvPr/>
        </p:nvPicPr>
        <p:blipFill>
          <a:blip r:embed="rId1"/>
          <a:srcRect l="13780" t="9721" r="13046" b="7857"/>
          <a:stretch/>
        </p:blipFill>
        <p:spPr>
          <a:xfrm>
            <a:off x="7093080" y="1125360"/>
            <a:ext cx="17524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4000" y="1588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успехов на экзамен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logo"/>
          <p:cNvPicPr/>
          <p:nvPr/>
        </p:nvPicPr>
        <p:blipFill>
          <a:blip r:embed="rId1"/>
          <a:srcRect l="8623" t="13168" r="32819" b="25768"/>
          <a:stretch/>
        </p:blipFill>
        <p:spPr>
          <a:xfrm>
            <a:off x="5500800" y="0"/>
            <a:ext cx="2643120" cy="1357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25231958"/>
          <p:cNvPicPr/>
          <p:nvPr/>
        </p:nvPicPr>
        <p:blipFill>
          <a:blip r:embed="rId2"/>
          <a:stretch/>
        </p:blipFill>
        <p:spPr>
          <a:xfrm>
            <a:off x="1628640" y="3444840"/>
            <a:ext cx="1876680" cy="295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25231408"/>
          <p:cNvPicPr/>
          <p:nvPr/>
        </p:nvPicPr>
        <p:blipFill>
          <a:blip r:embed="rId3"/>
          <a:stretch/>
        </p:blipFill>
        <p:spPr>
          <a:xfrm>
            <a:off x="5435640" y="2924280"/>
            <a:ext cx="172872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оюз И соединяе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9680" y="1499760"/>
            <a:ext cx="79246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ородные           части слож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лены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ви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е ставится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6"/>
          <p:cNvCxnSpPr/>
          <p:nvPr/>
        </p:nvCxnSpPr>
        <p:spPr>
          <a:xfrm flipH="1">
            <a:off x="2071440" y="1192320"/>
            <a:ext cx="2286720" cy="375120"/>
          </a:xfrm>
          <a:prstGeom prst="straightConnector1">
            <a:avLst/>
          </a:prstGeom>
          <a:ln w="9360">
            <a:solidFill>
              <a:srgbClr val="6e95bd"/>
            </a:solidFill>
            <a:miter/>
            <a:tailEnd len="med" type="arrow" w="med"/>
          </a:ln>
        </p:spPr>
      </p:cxnSp>
      <p:cxnSp>
        <p:nvCxnSpPr>
          <p:cNvPr id="111" name="Прямая со стрелкой 9"/>
          <p:cNvCxnSpPr/>
          <p:nvPr/>
        </p:nvCxnSpPr>
        <p:spPr>
          <a:xfrm>
            <a:off x="4642920" y="1214280"/>
            <a:ext cx="2233080" cy="464400"/>
          </a:xfrm>
          <a:prstGeom prst="straightConnector1">
            <a:avLst/>
          </a:prstGeom>
          <a:ln w="9360">
            <a:solidFill>
              <a:srgbClr val="6e95bd"/>
            </a:solidFill>
            <a:miter/>
            <a:tailEnd len="med" type="arrow" w="med"/>
          </a:ln>
        </p:spPr>
      </p:cxnSp>
      <p:sp>
        <p:nvSpPr>
          <p:cNvPr id="112" name="Овал 10"/>
          <p:cNvSpPr/>
          <p:nvPr/>
        </p:nvSpPr>
        <p:spPr>
          <a:xfrm>
            <a:off x="642960" y="500076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1"/>
          <p:cNvSpPr/>
          <p:nvPr/>
        </p:nvSpPr>
        <p:spPr>
          <a:xfrm>
            <a:off x="2786040" y="500076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13"/>
          <p:cNvCxnSpPr/>
          <p:nvPr/>
        </p:nvCxnSpPr>
        <p:spPr>
          <a:xfrm flipH="1">
            <a:off x="1428480" y="2143080"/>
            <a:ext cx="1357920" cy="2078640"/>
          </a:xfrm>
          <a:prstGeom prst="straightConnector1">
            <a:avLst/>
          </a:prstGeom>
          <a:ln w="9360">
            <a:solidFill>
              <a:srgbClr val="6e95bd"/>
            </a:solidFill>
            <a:miter/>
            <a:tailEnd len="med" type="arrow" w="med"/>
          </a:ln>
        </p:spPr>
      </p:cxnSp>
      <p:sp>
        <p:nvSpPr>
          <p:cNvPr id="115" name="Прямоугольник 14"/>
          <p:cNvSpPr/>
          <p:nvPr/>
        </p:nvSpPr>
        <p:spPr>
          <a:xfrm>
            <a:off x="1428840" y="5000760"/>
            <a:ext cx="100008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21"/>
          <p:cNvCxnSpPr/>
          <p:nvPr/>
        </p:nvCxnSpPr>
        <p:spPr>
          <a:xfrm flipH="1">
            <a:off x="6119280" y="2571480"/>
            <a:ext cx="501120" cy="786600"/>
          </a:xfrm>
          <a:prstGeom prst="straightConnector1">
            <a:avLst/>
          </a:prstGeom>
          <a:ln w="9360">
            <a:solidFill>
              <a:srgbClr val="6e95bd"/>
            </a:solidFill>
            <a:miter/>
            <a:tailEnd len="med" type="arrow" w="med"/>
          </a:ln>
        </p:spPr>
      </p:cxnSp>
      <p:sp>
        <p:nvSpPr>
          <p:cNvPr id="117" name="Прямоугольник 24"/>
          <p:cNvSpPr/>
          <p:nvPr/>
        </p:nvSpPr>
        <p:spPr>
          <a:xfrm>
            <a:off x="5143680" y="4429080"/>
            <a:ext cx="92844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5"/>
          <p:cNvSpPr/>
          <p:nvPr/>
        </p:nvSpPr>
        <p:spPr>
          <a:xfrm>
            <a:off x="7286760" y="4429080"/>
            <a:ext cx="91440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0"/>
          <p:cNvSpPr/>
          <p:nvPr/>
        </p:nvSpPr>
        <p:spPr>
          <a:xfrm>
            <a:off x="6286680" y="4357800"/>
            <a:ext cx="785520" cy="64296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 algn="just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а крутит хвостом и л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д и луг и река так прекрас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смеялась и плакала и мол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разбежавшись в разные стороны и спрятавшись кто куда затих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эзии Некрасова есть ненависть и сарказм надежда и вера любовь и неж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зантийских мастеров учились архитекторы и художники европейских и азиатских стра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logo"/>
          <p:cNvPicPr/>
          <p:nvPr/>
        </p:nvPicPr>
        <p:blipFill>
          <a:blip r:embed="rId1"/>
          <a:srcRect l="8623" t="13168" r="32819" b="25768"/>
          <a:stretch/>
        </p:blipFill>
        <p:spPr>
          <a:xfrm>
            <a:off x="0" y="285840"/>
            <a:ext cx="231444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 flipV="1" rot="10800000">
            <a:off x="2455920" y="398880"/>
            <a:ext cx="54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хематически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285920" y="3286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500040"/>
            <a:ext cx="8015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хематический диктант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71760"/>
            <a:ext cx="79250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     ,       и      ,     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          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"/>
          <p:cNvPicPr/>
          <p:nvPr/>
        </p:nvPicPr>
        <p:blipFill>
          <a:blip r:embed="rId1"/>
          <a:stretch/>
        </p:blipFill>
        <p:spPr>
          <a:xfrm>
            <a:off x="6786720" y="0"/>
            <a:ext cx="1296720" cy="1114560"/>
          </a:xfrm>
          <a:prstGeom prst="rect">
            <a:avLst/>
          </a:prstGeom>
          <a:ln w="0">
            <a:noFill/>
          </a:ln>
        </p:spPr>
      </p:pic>
      <p:sp>
        <p:nvSpPr>
          <p:cNvPr id="127" name="Овал 4"/>
          <p:cNvSpPr/>
          <p:nvPr/>
        </p:nvSpPr>
        <p:spPr>
          <a:xfrm>
            <a:off x="1071720" y="164304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6"/>
          <p:cNvSpPr/>
          <p:nvPr/>
        </p:nvSpPr>
        <p:spPr>
          <a:xfrm>
            <a:off x="2143080" y="164304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7"/>
          <p:cNvSpPr/>
          <p:nvPr/>
        </p:nvSpPr>
        <p:spPr>
          <a:xfrm>
            <a:off x="1571760" y="228600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8"/>
          <p:cNvSpPr/>
          <p:nvPr/>
        </p:nvSpPr>
        <p:spPr>
          <a:xfrm>
            <a:off x="2714760" y="228600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9"/>
          <p:cNvSpPr/>
          <p:nvPr/>
        </p:nvSpPr>
        <p:spPr>
          <a:xfrm>
            <a:off x="3929040" y="228600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0"/>
          <p:cNvSpPr/>
          <p:nvPr/>
        </p:nvSpPr>
        <p:spPr>
          <a:xfrm>
            <a:off x="1071720" y="300024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11"/>
          <p:cNvSpPr/>
          <p:nvPr/>
        </p:nvSpPr>
        <p:spPr>
          <a:xfrm>
            <a:off x="2286000" y="300024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12"/>
          <p:cNvSpPr/>
          <p:nvPr/>
        </p:nvSpPr>
        <p:spPr>
          <a:xfrm>
            <a:off x="3571920" y="292896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17"/>
          <p:cNvSpPr/>
          <p:nvPr/>
        </p:nvSpPr>
        <p:spPr>
          <a:xfrm>
            <a:off x="1071720" y="414324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8"/>
          <p:cNvSpPr/>
          <p:nvPr/>
        </p:nvSpPr>
        <p:spPr>
          <a:xfrm>
            <a:off x="2000160" y="421488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9"/>
          <p:cNvSpPr/>
          <p:nvPr/>
        </p:nvSpPr>
        <p:spPr>
          <a:xfrm>
            <a:off x="2857680" y="421488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20"/>
          <p:cNvSpPr/>
          <p:nvPr/>
        </p:nvSpPr>
        <p:spPr>
          <a:xfrm>
            <a:off x="3786120" y="421488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1"/>
          <p:cNvSpPr/>
          <p:nvPr/>
        </p:nvSpPr>
        <p:spPr>
          <a:xfrm>
            <a:off x="4643280" y="4143240"/>
            <a:ext cx="50040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2"/>
          <p:cNvSpPr/>
          <p:nvPr/>
        </p:nvSpPr>
        <p:spPr>
          <a:xfrm>
            <a:off x="5715000" y="4071960"/>
            <a:ext cx="500040" cy="571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3"/>
          <p:cNvSpPr/>
          <p:nvPr/>
        </p:nvSpPr>
        <p:spPr>
          <a:xfrm>
            <a:off x="1143000" y="485784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4"/>
          <p:cNvSpPr/>
          <p:nvPr/>
        </p:nvSpPr>
        <p:spPr>
          <a:xfrm>
            <a:off x="2143080" y="485784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25"/>
          <p:cNvSpPr/>
          <p:nvPr/>
        </p:nvSpPr>
        <p:spPr>
          <a:xfrm>
            <a:off x="2857680" y="485784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26"/>
          <p:cNvSpPr/>
          <p:nvPr/>
        </p:nvSpPr>
        <p:spPr>
          <a:xfrm>
            <a:off x="3857760" y="4857840"/>
            <a:ext cx="500040" cy="5000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Stenci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Stencil"/>
              </a:rPr>
              <a:t>16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предложение, в котором нужно поставить одну запятую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наки препинания не расставлены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Рисунок1полр"/>
          <p:cNvPicPr/>
          <p:nvPr/>
        </p:nvPicPr>
        <p:blipFill>
          <a:blip r:embed="rId1"/>
          <a:stretch/>
        </p:blipFill>
        <p:spPr>
          <a:xfrm>
            <a:off x="5429160" y="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Рисунок1ю"/>
          <p:cNvPicPr/>
          <p:nvPr/>
        </p:nvPicPr>
        <p:blipFill>
          <a:blip r:embed="rId1"/>
          <a:stretch/>
        </p:blipFill>
        <p:spPr>
          <a:xfrm>
            <a:off x="3564000" y="3500280"/>
            <a:ext cx="2401920" cy="33577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8"/>
          <p:cNvSpPr/>
          <p:nvPr/>
        </p:nvSpPr>
        <p:spPr>
          <a:xfrm>
            <a:off x="3203640" y="1268280"/>
            <a:ext cx="2881080" cy="2232000"/>
          </a:xfrm>
          <a:prstGeom prst="wedgeRoundRectCallout">
            <a:avLst>
              <a:gd name="adj1" fmla="val -2175"/>
              <a:gd name="adj2" fmla="val 713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Рисунок1ffffff"/>
          <p:cNvPicPr/>
          <p:nvPr/>
        </p:nvPicPr>
        <p:blipFill>
          <a:blip r:embed="rId2"/>
          <a:stretch/>
        </p:blipFill>
        <p:spPr>
          <a:xfrm>
            <a:off x="3708360" y="13557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УМАЕМ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НАД РЕШЕНИЕМ ТЕСТОВ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logo"/>
          <p:cNvPicPr/>
          <p:nvPr/>
        </p:nvPicPr>
        <p:blipFill>
          <a:blip r:embed="rId1"/>
          <a:srcRect l="8623" t="13168" r="32819" b="25768"/>
          <a:stretch/>
        </p:blipFill>
        <p:spPr>
          <a:xfrm>
            <a:off x="0" y="214200"/>
            <a:ext cx="2448000" cy="100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йдите «третий лиш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Гроза прошла и ветка белых роз в окно мне дышит арома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 ветер леса шумят великим океанским гулом и вершины сосен гнутся вслед пролетающим обла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кромно вошла зима в березовую рощу улеглась и сразу все вокруг заискрилось и побел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571680" y="21420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следование языкового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6:07:40Z</dcterms:created>
  <dc:creator>Russian_lang</dc:creator>
  <dc:description/>
  <dc:language>en-US</dc:language>
  <cp:lastModifiedBy>Пользователь</cp:lastModifiedBy>
  <dcterms:modified xsi:type="dcterms:W3CDTF">2023-04-30T12:01:04Z</dcterms:modified>
  <cp:revision>115</cp:revision>
  <dc:subject/>
  <dc:title>Слайд 1</dc:title>
</cp:coreProperties>
</file>