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640" y="744120"/>
            <a:ext cx="4960800" cy="372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5B66B-92F3-425A-B14A-D47E61CA79F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7"/>
          <p:cNvSpPr/>
          <p:nvPr/>
        </p:nvSpPr>
        <p:spPr>
          <a:xfrm>
            <a:off x="384984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8E1E0-27C8-427B-BD57-386AA4EA48E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384984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43DDF-D1B2-4CDC-AF5E-F588B74673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B76A-411B-4504-A35B-57CC3D979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DD57-F12F-4D65-84F1-47B670289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4B7A-5C51-42FD-B6C7-6252EA10F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20B9-EE44-4663-8E46-DFE581C33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AC84-7957-41CA-A3DA-320FC37E6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C05D-CB1F-4A45-90AA-56CAED4CC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04C3-9E5F-4F94-B792-35FCA6B29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2D5E-6675-4428-B212-7D959C76D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1968-E757-4996-8575-B7B5735C4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6834-BA33-40A2-8779-B63950760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0E14-4BCC-4296-9DD2-81CB54A79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CD0E-42A7-48A6-A8F7-FF1966121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20321-6090-4B42-848D-5883192D08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572320" cy="63579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FrankRuehl"/>
              </a:rPr>
              <a:t>УЧЕБНАЯ СИТУАЦИЯ КАК СТРУКТУРНАЯ ЕДИНИЦА УЧЕБНОЙ ДЕЯТЕЛЬНОСТИ И УСЛОВИЕ ФОРМИРОВАНИЯ УУД.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FrankRuehl"/>
              </a:rPr>
              <a:t>СПОСОБЫ СОЗДАНИЯ УЧЕБНОЙ</a:t>
            </a:r>
            <a:br>
              <a:rPr sz="3600"/>
            </a:b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FrankRuehl"/>
              </a:rPr>
              <a:t>СИТУАЦИИ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14200" y="1356840"/>
            <a:ext cx="8715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Интерес к учению есть только там, где есть вдохновение, рождающееся от успеха»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.А.Сухомлинск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ологической основой формирования УУД является системно-деятельностный подход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AutoShape 6"/>
          <p:cNvSpPr/>
          <p:nvPr/>
        </p:nvSpPr>
        <p:spPr>
          <a:xfrm>
            <a:off x="285840" y="428760"/>
            <a:ext cx="8712000" cy="576000"/>
          </a:xfrm>
          <a:prstGeom prst="roundRect">
            <a:avLst>
              <a:gd name="adj" fmla="val 49106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Системно-деятельностный подх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9"/>
          <p:cNvSpPr/>
          <p:nvPr/>
        </p:nvSpPr>
        <p:spPr>
          <a:xfrm>
            <a:off x="214200" y="1357200"/>
            <a:ext cx="8572680" cy="385776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а концепции деятельностного подхода -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воение содержания обучения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тие ученика происходит в процессе е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бственной деятельност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28760" y="114264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ть создавать  учебные ситуации, когда у ребенка появляется потребность в открыти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4"/>
          <p:cNvSpPr/>
          <p:nvPr/>
        </p:nvSpPr>
        <p:spPr>
          <a:xfrm>
            <a:off x="642960" y="3500280"/>
            <a:ext cx="6000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ить проблемы (затруднен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рать решение пробл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ть работать с информац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шать и понимать других люд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ть работать в групп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6"/>
          <p:cNvSpPr/>
          <p:nvPr/>
        </p:nvSpPr>
        <p:spPr>
          <a:xfrm>
            <a:off x="857160" y="357120"/>
            <a:ext cx="5500800" cy="576360"/>
          </a:xfrm>
          <a:prstGeom prst="roundRect">
            <a:avLst>
              <a:gd name="adj" fmla="val 49106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дача учител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6"/>
          <p:cNvSpPr/>
          <p:nvPr/>
        </p:nvSpPr>
        <p:spPr>
          <a:xfrm>
            <a:off x="785880" y="2786040"/>
            <a:ext cx="5500800" cy="576360"/>
          </a:xfrm>
          <a:prstGeom prst="roundRect">
            <a:avLst>
              <a:gd name="adj" fmla="val 49106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дача учащихся в рамках УЧ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AutoShape 6"/>
          <p:cNvSpPr/>
          <p:nvPr/>
        </p:nvSpPr>
        <p:spPr>
          <a:xfrm>
            <a:off x="357120" y="500040"/>
            <a:ext cx="7929720" cy="576360"/>
          </a:xfrm>
          <a:prstGeom prst="roundRect">
            <a:avLst>
              <a:gd name="adj" fmla="val 49106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Этапы создания учебной ситу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9"/>
          <p:cNvSpPr/>
          <p:nvPr/>
        </p:nvSpPr>
        <p:spPr>
          <a:xfrm>
            <a:off x="0" y="1143000"/>
            <a:ext cx="8786880" cy="428616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педагогических зада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 Организация учебной ситу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 Прогнозирование возможных действий учащих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8T06:56:14Z</dcterms:created>
  <dc:creator>12</dc:creator>
  <dc:description/>
  <dc:language>en-US</dc:language>
  <cp:lastModifiedBy>1</cp:lastModifiedBy>
  <dcterms:modified xsi:type="dcterms:W3CDTF">2016-10-17T17:50:58Z</dcterms:modified>
  <cp:revision>133</cp:revision>
  <dc:subject/>
  <dc:title>Формирование УУД</dc:title>
</cp:coreProperties>
</file>